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85107"/>
        <c:axId val="48270344"/>
      </c:barChart>
      <c:catAx>
        <c:axId val="85485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70344"/>
        <c:crosses val="autoZero"/>
        <c:auto val="1"/>
        <c:lblAlgn val="ctr"/>
        <c:lblOffset val="100"/>
        <c:noMultiLvlLbl val="0"/>
      </c:catAx>
      <c:valAx>
        <c:axId val="48270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85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A8D-FB40-42B4-AD46-408EB619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465-9F0E-42BE-8E16-1511FDD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5D5-A5B5-4BCD-B5BD-A3365120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24F-A55F-400A-9256-79CD34F9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7CB-A68C-4B60-8F37-968573C0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8A3-ABD7-4C24-80E3-332034DB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583-30BD-4D92-B7D7-2E19C8AA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94D-E417-49A2-9656-C650BE03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314-935C-4AC2-850E-E12DA4FA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20B-6AE0-4D53-BE53-D3DD3E78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88C-D139-4371-8613-5C4D472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6CD-A7CB-44E4-A7CF-9914453D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79F71-459B-4EB2-B656-27A26D2F01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